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DA0-3AB4-49FB-9110-5C8C13F7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862-55A6-4FA9-9B71-FC60EF3D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4DF-53AF-4D82-A264-8A7AFF0D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03B-F94B-403E-80FE-F099EFDF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BEE-9EAE-46DE-AA82-F25CA4C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B2D-8893-4271-B505-5DB5B2B6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A9A-98A5-4419-89BD-482EB026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52B-EC8B-4B62-8310-32673D47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641-9829-460A-B6C5-9AA3C014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6AB-B18C-4A6F-96E1-C8CFBCF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7E4-BCAA-4FBE-BC9A-45F8EF1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E68-508F-491F-A9F4-EFF8C2C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8EC-5BA7-4B4C-8879-C6324C85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0280" y="324000"/>
            <a:ext cx="633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IN THE FRONT 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60640" y="766764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7164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60640" y="766764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0280" y="324000"/>
            <a:ext cx="633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OIN THE FRONT 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60640" y="766764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cc"/>
                </a:solidFill>
                <a:latin typeface="Arial Black"/>
              </a:rPr>
              <a:t>THIS!</a:t>
            </a:r>
            <a:endParaRPr b="0" lang="en-US" sz="1800" spc="1" strike="noStrike">
              <a:ln w="0">
                <a:noFill/>
              </a:ln>
              <a:solidFill>
                <a:srgbClr val="ff66cc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1547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39:32Z</dcterms:created>
  <dc:creator>Matt</dc:creator>
  <dc:description/>
  <dc:language>en-US</dc:language>
  <cp:lastModifiedBy>Matt</cp:lastModifiedBy>
  <dcterms:modified xsi:type="dcterms:W3CDTF">2009-03-22T08:08:29Z</dcterms:modified>
  <cp:revision>2</cp:revision>
  <dc:subject/>
  <dc:title>Slide 1</dc:title>
</cp:coreProperties>
</file>